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41D-E002-4742-B3A7-157EEE47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09D-2B2E-4734-BC10-95E213B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3EC-E9D4-4AB9-A39C-664CC1FA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6BC-27CE-4A87-8FAA-50A52A3C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200-3934-4846-A815-7E979E69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7CD-D39D-465D-AEA6-2862BFD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B81-A27B-4379-914E-3931BED1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140-C3B0-4FBE-B423-98E28874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5B5-46A3-46AF-AE00-97885FFC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D8D-EB06-4A4A-9635-12B8D063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CD8-A099-494D-97D9-B1C0682F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25B-3EAC-42E9-8E82-F00A634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ABA15-225D-44C6-884A-628687E69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2D5A6-92F1-47CA-9928-60FAB0F20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5" descr="Flat Basketball.jpg"/>
          <p:cNvPicPr/>
          <p:nvPr/>
        </p:nvPicPr>
        <p:blipFill>
          <a:blip r:embed="rId1"/>
          <a:srcRect l="0" t="-20030" r="0" b="-2003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6" descr="Inflated Basketball.jpg"/>
          <p:cNvPicPr/>
          <p:nvPr/>
        </p:nvPicPr>
        <p:blipFill>
          <a:blip r:embed="rId2"/>
          <a:srcRect l="0" t="-6028" r="0" b="-6028"/>
          <a:stretch/>
        </p:blipFill>
        <p:spPr>
          <a:xfrm>
            <a:off x="5003640" y="1913040"/>
            <a:ext cx="3268800" cy="3662280"/>
          </a:xfrm>
          <a:prstGeom prst="rect">
            <a:avLst/>
          </a:prstGeom>
          <a:ln w="0">
            <a:noFill/>
          </a:ln>
        </p:spPr>
      </p:pic>
      <p:sp>
        <p:nvSpPr>
          <p:cNvPr id="46" name="Right Arrow 7"/>
          <p:cNvSpPr/>
          <p:nvPr/>
        </p:nvSpPr>
        <p:spPr>
          <a:xfrm>
            <a:off x="3960720" y="2992320"/>
            <a:ext cx="822240" cy="822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exert force onto something by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or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Push.jpg"/>
          <p:cNvPicPr/>
          <p:nvPr/>
        </p:nvPicPr>
        <p:blipFill>
          <a:blip r:embed="rId1"/>
          <a:stretch/>
        </p:blipFill>
        <p:spPr>
          <a:xfrm>
            <a:off x="1204920" y="2305080"/>
            <a:ext cx="2870280" cy="215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ull.gif"/>
          <p:cNvPicPr/>
          <p:nvPr/>
        </p:nvPicPr>
        <p:blipFill>
          <a:blip r:embed="rId2"/>
          <a:stretch/>
        </p:blipFill>
        <p:spPr>
          <a:xfrm>
            <a:off x="5229360" y="2305080"/>
            <a:ext cx="28670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77280" y="633744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of the individual particles add together to make up the pressure of th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Pressure Formula.png"/>
          <p:cNvPicPr/>
          <p:nvPr/>
        </p:nvPicPr>
        <p:blipFill>
          <a:blip r:embed="rId1"/>
          <a:srcRect l="0" t="-28023" r="0" b="-28023"/>
          <a:stretch/>
        </p:blipFill>
        <p:spPr>
          <a:xfrm>
            <a:off x="3014640" y="2498760"/>
            <a:ext cx="2805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pressure is measured i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unit of pressure is called 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mospheric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Straw.gif"/>
          <p:cNvPicPr/>
          <p:nvPr/>
        </p:nvPicPr>
        <p:blipFill>
          <a:blip r:embed="rId1"/>
          <a:srcRect l="-63643" t="0" r="-636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itude is the height above sea leve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ltitude _____________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ospheric pressure 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Blaise Pascal.jpg"/>
          <p:cNvPicPr/>
          <p:nvPr/>
        </p:nvPicPr>
        <p:blipFill>
          <a:blip r:embed="rId1"/>
          <a:stretch/>
        </p:blipFill>
        <p:spPr>
          <a:xfrm>
            <a:off x="3519360" y="4110120"/>
            <a:ext cx="2729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8:04:48Z</dcterms:created>
  <dc:creator>Cleophis Carson</dc:creator>
  <dc:description/>
  <dc:language>en-US</dc:language>
  <cp:lastModifiedBy>Cleophis Carson</cp:lastModifiedBy>
  <dcterms:modified xsi:type="dcterms:W3CDTF">2011-09-20T09:25:05Z</dcterms:modified>
  <cp:revision>2</cp:revision>
  <dc:subject/>
  <dc:title>Pressure</dc:title>
</cp:coreProperties>
</file>